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9A0-5FB6-4D39-86AA-A208FE91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5D6-DA42-4C5F-9573-8C088AC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210-45B5-487D-9598-4EEFD5AA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41F-7324-4AEA-A978-A950B740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1E3A-C442-405C-B253-F8DF35C1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AB66-2DCD-4BCA-A49A-9B2EFA37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1808-C509-425C-BDE0-1E2A6C63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06C1-B4DD-460F-8C51-AFEC66AF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B443-85EA-4160-B79C-D1FBFE34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8EC1-0C8C-45DD-917F-BB3AE507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4DE5-71FC-44DE-814A-0761B394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152-DE20-4556-8C9E-0C4D8980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92EA-FB67-4C2C-81F4-A0B1415B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1114-B0D4-490E-8176-F75FA74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15A9-410A-4AE9-BF84-E8139C08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CCD2-109D-44C9-9FD9-C5ACAF05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EB68-2DDE-405D-BECF-D482B3E4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6C5-933F-4502-A007-0820C96A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453-A74E-4E6D-92E7-989018C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926-B297-4048-B5DA-C8CC78D3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BDD-BB67-4A1D-93D1-AF05314A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80A-4937-4147-B143-98F36650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B41-6344-49B9-9FE1-1E210E4F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EBF-FAC2-4689-92CA-3C301095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AB9D-D99E-407C-AEC3-A4AB9F36812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B2F2-7707-4688-A052-AB00C6383064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reating and Maintaining Positive Relationships at Work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6. Listen to body messag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ear is the beginning of wisd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7. Develop a plan to get hel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An ounce of prevention is worth a pound of c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Scamm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o be prepared for war is one of the most effectual means of preserving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George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8. Get a gri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ink before you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William Shakespe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9. Be selective when spea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open a can of w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10. Recognize enemies and dissente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 me once shame on you, fool me twice, shame on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1. Speak Soft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peak softly and carry a big st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Teddy Roosev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2. Develop listening skil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sten, don’t just h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3. Utilize credible witn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ere is strength in 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4. Remain Detach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ticks and stones may break my bones, but names will never hurt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Mother Go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5. Move 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cry over split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Andrew Yaman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spit into the w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Jim Cro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let your heart rule your 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Garamond"/>
              </a:rPr>
              <a:t>Ideas taken from Life would be easy if it weren't for other peopl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ne Take on the Basics of Communic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4038480" cy="2263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o achieve mutually satisfying solutions, honour positive relationships and foster respect. (assert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60020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avoids confrontation, criticism and complaints at all costs – tends to avoid getting involved or taking action.   (pa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3938760"/>
          <a:ext cx="4038480" cy="2358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uses manipulation e.g. whining, yelling, pouting, screaming, complaining, crying, getting one’s feelings hur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0" y="3962520"/>
          <a:ext cx="4114800" cy="23590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designed to pay someone back or teach someone a lesson – avoids confrontation but uses manipulation to get 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passive-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Red, Yellow, Green Car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nviolent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Compassionate Communication, Mindful Communication, Conscious Communication, Authentic Commun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al is to generate a climate where everyone’s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ed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considered equal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when there is an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inten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ke 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onn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we may choose not to use it in certain interac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Premises of NVC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humans have the same needs, and all we are ever trying to do, with our words and actions, is to have those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re fundamentally compassionate, but we have been trained to appreciate “violenc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person is responsible for their feelings, as they are born out of their own needs. Each person is responsible for getting their own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possible to express ourselves authentically and remain respectful of oth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NVC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the facts (actions, words, gestures) that trigger a reaction in you. NOT interpretations, evaluations, labels…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FEELING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Your reaction to the observations creates feelings in you. All feelings are linked to a need.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NEED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- Identify the need that is linked to the feeling. Needs are universal, intangible, and intrinsic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REQUEST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state how you will take charge of meeting your needs, without making demands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-way Intention to Conne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thentic Express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mpathic Listen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acti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ualize heading into the same old fight with your partner or a family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fficult conversation with a parent of a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hronic issue you have with a collea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 steps To Poor Liste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strategy 12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ckpot! Read article and be ready to answer 5 questions about the arti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Teaching Compulsory Cour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Teaching compulsory courses is no different from teaching other electives.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4-corners: strongly agree, somewhat agree, somewhat disagree, strongly disa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Go to your corner and compile and chart a list of reasons, and/or examples in your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Post your list, then we will all do a walk about and consider the other viewpoi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me of my best advice about working in a new (to you) schoo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and listen to the school culture, reflect on what you can learn from it and how you can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willing to do more following than leading in your first year but don’t be a leech – contribute positively to your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a colleague (it doesn’t have to be in your school) to whom you can turn when you have questions or want to reflect on a sit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5 Most often used strategies when managing situati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175248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Forewarned is forea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rv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Knowledge is 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rancis Ba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5800" y="685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. Gather Pertinent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ls rush in where angels fear to tr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lexander P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ing is everyth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George Bu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89280" y="658800"/>
            <a:ext cx="51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2. Defer 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3. Refuse to be bait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two to make a f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s bite one another, but wise men agre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George Herbe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4. Compile a list of positive responses to use during uncomfortable discussions</a:t>
            </a: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Honey catches more flies than vineg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Franklin Praiman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5. Learn to apologiz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a big person to say “I’m sorr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18:45Z</dcterms:created>
  <dc:creator>jpittlainsbury</dc:creator>
  <dc:description/>
  <dc:language>en-US</dc:language>
  <cp:lastModifiedBy>jpittlainsbury</cp:lastModifiedBy>
  <dcterms:modified xsi:type="dcterms:W3CDTF">2010-08-23T00:30:31Z</dcterms:modified>
  <cp:revision>22</cp:revision>
  <dc:subject/>
  <dc:title>Creating and Maintaining Positive Relationships at Work</dc:title>
</cp:coreProperties>
</file>